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24D-1E6A-4FFB-BD8A-832B0F4B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C553-345D-4AEA-AD46-CA4FB79A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803E-0AB1-4051-BB89-5D67FC6CD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D0B6-67E5-49E8-9A69-CFF83A94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AAF-B94C-4A0D-9310-804CB048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301E-17D2-4C14-BAA9-A0BDBF03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778D-B2BD-49CD-AF08-3C2C2B0E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45D5-2290-48E0-BBE2-DDFB90E5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1E56-2AD3-4F55-8AFC-A5FFCB36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0F6-DC49-4B16-A275-4359C012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864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6352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6352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864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864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864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-12600"/>
            <a:ext cx="77724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864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6864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6352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6352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6864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6864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68640"/>
            <a:ext cx="250236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-12600"/>
            <a:ext cx="77724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864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63520"/>
            <a:ext cx="37926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864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9864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7920"/>
            <a:ext cx="8380440" cy="7621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484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Advanced Program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partimento di Informa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versità di Pi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7570440" y="115920"/>
            <a:ext cx="1133280" cy="1257120"/>
            <a:chOff x="7570440" y="115920"/>
            <a:chExt cx="1133280" cy="1257120"/>
          </a:xfrm>
        </p:grpSpPr>
        <p:pic>
          <p:nvPicPr>
            <p:cNvPr id="93" name="Picture 6" descr="cherubino"/>
            <p:cNvPicPr/>
            <p:nvPr/>
          </p:nvPicPr>
          <p:blipFill>
            <a:blip r:embed="rId1"/>
            <a:stretch/>
          </p:blipFill>
          <p:spPr>
            <a:xfrm>
              <a:off x="7649640" y="115920"/>
              <a:ext cx="93420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7570440" y="1141920"/>
              <a:ext cx="113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6699"/>
                  </a:solidFill>
                  <a:latin typeface="Palatino Linotype"/>
                </a:rPr>
                <a:t>Università di Pi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ements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ion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ore Complex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Programming allows ever larger applications to be bui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 increased high-level application and system overs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tier applications development increases the choices on how to build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ftware Archit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is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ftware Architect Du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ing, defining or choosing an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pplication framewor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ing the component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ucture a complex application into pie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stand the interactions and dependencies among compon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 the platform based on cost/performance criter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ganize and supervise the 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onstruction sit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pplication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oftware framework used to implement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nda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ructure of an application for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cif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velopment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ftware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llection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co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vid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neric functiona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can be selectively overridden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ecialized by user co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viding specific functiona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, like software libraries, provi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usable abstrac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ode wrapped in a well-defined 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ramewor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 of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ke in libraries, the overall program's flow of control is not dictated by the caller, but by the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lywood Princi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n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 call us, we</a:t>
            </a:r>
            <a:r>
              <a:rPr b="1" i="1" lang="ja-JP" sz="2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l call y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ault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bility: usually by selective overri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modifiable framework cod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O Software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programming frameworks consists in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t of abstract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pplication can be built simply inheriting from pre-existing classes in the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tiation of a framework consists of composing and subclassing the existing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s of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n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co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W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currenc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doop Map/Redu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ass Hierarchy (NextSTEP 198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pplication Kit class hierarchy in 1988"/>
          <p:cNvPicPr/>
          <p:nvPr/>
        </p:nvPicPr>
        <p:blipFill>
          <a:blip r:embed="rId1"/>
          <a:stretch/>
        </p:blipFill>
        <p:spPr>
          <a:xfrm>
            <a:off x="851040" y="1646280"/>
            <a:ext cx="82324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coa (20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UIKit class hierarchy"/>
          <p:cNvPicPr/>
          <p:nvPr/>
        </p:nvPicPr>
        <p:blipFill>
          <a:blip r:embed="rId1"/>
          <a:stretch/>
        </p:blipFill>
        <p:spPr>
          <a:xfrm>
            <a:off x="3292560" y="-34920"/>
            <a:ext cx="51912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988920" y="2274840"/>
            <a:ext cx="794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Language is an instrument of human reason,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not merely a medium for the expression of thought.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. Boole, An Investigation of the Laws of Thought, 185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enefits of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s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ates how to fill-in-the-bl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olving recurring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for re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value, since reduces cost of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ramework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ectual Challenging Ta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a deep understanding of the problem dom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mastering of software patterns, OO methods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orphis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particul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ore abstract than frame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works can be embodied in code, but onl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atterns can be embodied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atterns explain the intent, trade-offs, and consequences of a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maller architectural elements than frame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ypical framework contains several design patterns but the reverse is never tr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Less specialized than frame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works always have a particular application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atterns can be used in nearly any kind of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in of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pendency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s avoiding hard-coded dependencies and changing th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s selection among multiple implementations of a given dependency interface at ru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plugins dyna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ace mock objects in test environments vs. real objects in production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ependency In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440" y="1163520"/>
            <a:ext cx="836604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class Client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// Internal reference to the service used by this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Service servic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// Fixed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= new ServiceExampl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(Service service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// injection of a specific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.service = servic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// Method within this client that uses the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tring greet(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"Hello " + service.getName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Course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programming language technolog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programming metapho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 advanced programming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ir limits ad how to overcome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xplain how high level programming concepts and metaphors map into executable systems and which are their costs and limitation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Acquaint with modern principles, techniques, and best practices of advanced software construction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Introduce techniques of programming at higher abstraction levels, in particular generative programming, component programming and web computing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Present state-of-the-art frameworks incorporating these techniqu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lla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720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gramming Language Fou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yntax, Parsing, Abstract Syntax Tree, Parser Generato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ames, Scope, Bin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arameter Pass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tatic and Dynamic Allocaltion: Stack, Hea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ypes, Inheritance, Polymorphism, Overloa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elegates, Clos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xception Handl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structor and Assi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tent Placeholder 4" descr="Beppe07.jpg"/>
          <p:cNvPicPr/>
          <p:nvPr/>
        </p:nvPicPr>
        <p:blipFill>
          <a:blip r:embed="rId1"/>
          <a:stretch/>
        </p:blipFill>
        <p:spPr>
          <a:xfrm>
            <a:off x="868320" y="1698480"/>
            <a:ext cx="1336680" cy="1773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617920" y="1992240"/>
            <a:ext cx="4735440" cy="150192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useppe Attar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2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: attardi@di.unipi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617920" y="4094280"/>
            <a:ext cx="4735440" cy="1501560"/>
          </a:xfrm>
          <a:prstGeom prst="rect">
            <a:avLst/>
          </a:prstGeom>
          <a:gradFill rotWithShape="0">
            <a:gsLst>
              <a:gs pos="0">
                <a:srgbClr val="e8ecff"/>
              </a:gs>
              <a:gs pos="100000">
                <a:srgbClr val="b7c4ff"/>
              </a:gs>
            </a:gsLst>
            <a:lin ang="5400000"/>
          </a:gradFill>
          <a:ln w="9360">
            <a:solidFill>
              <a:srgbClr val="a7b2f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-381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n-tim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Virtual Execution Environmen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Thread Manageme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xception Handli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ebugging Suppor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OT and JIT Compilation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ynamic Link/Load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vanced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# Gener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Gener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ve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ct Oriented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ss level: interprocess communic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nguage level: CORBA/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bject level: DCO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onent Bas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JavaBea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NET (Assembly, Reflection, Interfaces, Attribute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SGi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rvices, SO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Frame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XML, XML-Schem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OAP, RPC, Re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WS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w Cen MT Condensed"/>
              </a:rPr>
              <a:t>Web Frameworks and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sp.Ne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J2E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JQu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JAX: XHR, jQuery, YUI, GW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ode.j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ervice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ice Oriented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Bas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42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/Redu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DA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eb Application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nciple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rsion of contro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base access and mapp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affold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ja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mfon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ra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curr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each or not to teach programm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teach programm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 is not just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cripting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84693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Spectrum Ranking 2015-20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84080" y="1413000"/>
            <a:ext cx="7874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84693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Spectrum Ranking 2016-20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687240" y="1290600"/>
            <a:ext cx="8305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val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-101520" y="-65160"/>
            <a:ext cx="940572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-52560" y="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10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674640" y="1851120"/>
            <a:ext cx="84693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84693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op 10 Web Application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by on Rai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ularJ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er.j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kePH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lc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fo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igni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ext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916280" y="1698480"/>
            <a:ext cx="698976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gramming Language Pragmatics, third ed.. Michael L. Scott, Morgan-Kaufmann, 2009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omponents: Beyond Object-Oriented Programming. C. Szyperski, D. Gruntz, S. Murer, Addison-Wesley, 200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Beppe\Corsi\AdvancedProgramming\images\ProgrammingLanguagePragmatics.jpg"/>
          <p:cNvPicPr/>
          <p:nvPr/>
        </p:nvPicPr>
        <p:blipFill>
          <a:blip r:embed="rId1"/>
          <a:stretch/>
        </p:blipFill>
        <p:spPr>
          <a:xfrm>
            <a:off x="806400" y="1830240"/>
            <a:ext cx="1062000" cy="1414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870120" y="4054320"/>
            <a:ext cx="9936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dditional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995480" y="1698480"/>
            <a:ext cx="64627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enerative Programming: Methods, Tools, and Applications. K. Czarnecki, U. Eisenecker, Addison-Wesley, 20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bject Thinking. D. West, Microsoft Press, 2004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Query in Action. B. Bibeault, Y. Katz, Manning, 201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bibeault_cover150.jpg"/>
          <p:cNvPicPr/>
          <p:nvPr/>
        </p:nvPicPr>
        <p:blipFill>
          <a:blip r:embed="rId1"/>
          <a:stretch/>
        </p:blipFill>
        <p:spPr>
          <a:xfrm>
            <a:off x="838080" y="4826160"/>
            <a:ext cx="1157400" cy="144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Beppe\Corsi\AdvancedProgramming\images\image004.jpg"/>
          <p:cNvPicPr/>
          <p:nvPr/>
        </p:nvPicPr>
        <p:blipFill>
          <a:blip r:embed="rId2"/>
          <a:stretch/>
        </p:blipFill>
        <p:spPr>
          <a:xfrm>
            <a:off x="838080" y="1766880"/>
            <a:ext cx="1051200" cy="131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Beppe\Corsi\AdvancedProgramming\images\image006.jpg"/>
          <p:cNvPicPr/>
          <p:nvPr/>
        </p:nvPicPr>
        <p:blipFill>
          <a:blip r:embed="rId3"/>
          <a:stretch/>
        </p:blipFill>
        <p:spPr>
          <a:xfrm>
            <a:off x="674640" y="3137040"/>
            <a:ext cx="13208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oftware Everyw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an be the key to delivering new product offerings and driving continuous product inno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o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inno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flex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enforcement for quality assurance and matching dema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id Term Paper: half way, one week homewor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erm Paper: at the end of the course, 20 days homewor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inal Term P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s at exercising ability to conceive and implement full solutions to a nontrivial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 Code generator with regular expression mat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a DSL for handling persistent object contai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P protocol and SOAP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 generator for searching an object 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path and XSLT Intre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for generating network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JAX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Cha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a simple implementation of primitiv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d* malloc(size_t siz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d free(void*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to have available a block of memory of size MemSize starting at Mem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limits of the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ftware Inno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131840" y="1238400"/>
            <a:ext cx="727092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-52560"/>
            <a:ext cx="845172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ftware as 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4640" y="1224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dmired Companies Making IT A Competitive Advantage (Forb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74280" y="2211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n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eveland Clini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man Sac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spital Corporation of Amer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mountain Health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62160" y="22114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P Morgan Ch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iser Perman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yo Clini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st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ter &amp; Gam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essive Insur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lumberg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yo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ls Farg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4640" y="124776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gramming in the 21 centu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ware as complex as ev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and line interface not enou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comes from multiple sources: structured (DB) and unstructur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ngle computer not enou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ware development is a group a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ployment on Web or mobile devi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-126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2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 start from scr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usable components are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 + libraries not enoug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53:58Z</dcterms:created>
  <dc:creator>Giuseppe Attardi</dc:creator>
  <dc:description/>
  <dc:language>en-US</dc:language>
  <cp:lastModifiedBy>GIUSEPPE ATTARDI</cp:lastModifiedBy>
  <dcterms:modified xsi:type="dcterms:W3CDTF">2017-02-21T07:53:01Z</dcterms:modified>
  <cp:revision>212</cp:revision>
  <dc:subject/>
  <dc:title>Programmazione Avanzata</dc:title>
</cp:coreProperties>
</file>